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C15-9DBB-467F-8D0D-83B6FCD5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AD8-D342-4F35-90B2-92CA18D7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20D-C2B5-4540-8CD7-4FC3056F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3CB-B613-49B6-AD6E-CFBFD942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805-5453-4A56-9147-AE5763FD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2EC-20D4-44F8-8B75-951700FE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D27-788E-4134-A6C1-A9615D4C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ACB-E894-4F64-B96C-6712BA65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7BE4-8728-40A2-8137-6A3A8ED8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B98-7789-4D71-B563-1FAEAC97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3B0-AA1F-4523-BBD6-DC50E949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EF5-127B-48F7-BEFE-753CF61E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6260-6A0D-449B-9ADA-030F066CF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e was Ambitious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But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Simple-Minded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6858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Mike Oldfield - Tubular Bells Part One.mp3" descr=""/>
          <p:cNvPicPr/>
          <p:nvPr/>
        </p:nvPicPr>
        <p:blipFill>
          <a:blip r:embed="rId1"/>
          <a:stretch/>
        </p:blipFill>
        <p:spPr>
          <a:xfrm>
            <a:off x="76320" y="625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tumblr_mapsx60Y7W1r8iv71o1_500_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e shock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afety-in-dark-parking-lo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e was duped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ar gem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Apologize…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gemma"/>
          <p:cNvPicPr/>
          <p:nvPr/>
        </p:nvPicPr>
        <p:blipFill>
          <a:blip r:embed="rId1"/>
          <a:stretch/>
        </p:blipFill>
        <p:spPr>
          <a:xfrm>
            <a:off x="1447920" y="0"/>
            <a:ext cx="6019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But all d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IMG_03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e was Dreamfu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4097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5867619144_abc5efe4a5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Dreams became tr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alfa-romeo-mito-rendering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Also he did not know about 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old Love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019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ero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1055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skybar_crow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01:34:45Z</dcterms:created>
  <dc:creator>A.ASHTARI</dc:creator>
  <dc:description/>
  <dc:language>en-US</dc:language>
  <cp:lastModifiedBy>ms</cp:lastModifiedBy>
  <dcterms:modified xsi:type="dcterms:W3CDTF">2012-10-03T07:32:59Z</dcterms:modified>
  <cp:revision>11</cp:revision>
  <dc:subject/>
  <dc:title>He was Ambitious But Simple-Minded </dc:title>
</cp:coreProperties>
</file>